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9907588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9907200" cy="6742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9907560" cy="674388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907560" cy="674388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72200" y="6351480"/>
            <a:ext cx="426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8F317CC0-2EC9-49AC-B787-12AB1BBD29E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953400" y="103320"/>
            <a:ext cx="2384280" cy="3283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1342800" y="3215880"/>
            <a:ext cx="727380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Img"/>
          </p:nvPr>
        </p:nvSpPr>
        <p:spPr>
          <a:xfrm>
            <a:off x="3268440" y="512640"/>
            <a:ext cx="3368520" cy="252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1342800" y="3215880"/>
            <a:ext cx="727524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5240" cy="30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5240" cy="30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5240" cy="30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5240" cy="30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5240" cy="30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5240" cy="30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5240" cy="30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5240" cy="30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5240" cy="30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5240" cy="30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5240" cy="30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5240" cy="30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5240" cy="30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5240" cy="30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5240" cy="30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5240" cy="30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5240" cy="30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5240" cy="30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5240" cy="30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5240" cy="30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5240" cy="30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5240" cy="30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5240" cy="30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5240" cy="30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5240" cy="30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5240" cy="30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5240" cy="30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5240" cy="30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4548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37720" y="3943440"/>
            <a:ext cx="784548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7720" y="394344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57840" y="394344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90560" y="167652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43400" y="167652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37720" y="394344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90560" y="394344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43400" y="394344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784548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4548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838080" y="380880"/>
            <a:ext cx="7769520" cy="38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37720" y="394344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784548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57840" y="394344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37720" y="3943440"/>
            <a:ext cx="784548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4548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37720" y="3943440"/>
            <a:ext cx="784548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7720" y="394344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57840" y="394344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90560" y="167652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43400" y="167652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37720" y="394344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90560" y="394344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43400" y="394344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4548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38080" y="380880"/>
            <a:ext cx="7769520" cy="38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37720" y="394344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7840" y="394344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7720" y="3943440"/>
            <a:ext cx="784548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6324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Arial"/>
              </a:rPr>
              <a:t>TTÜ 2006    T.Tammet     loeng 13  lk   </a:t>
            </a:r>
            <a:r>
              <a:rPr b="1" lang="en-GB" sz="1400" spc="-1" strike="noStrike">
                <a:solidFill>
                  <a:srgbClr val="6666ff"/>
                </a:solidFill>
                <a:latin typeface="Arial"/>
              </a:rPr>
              <a:t>- </a:t>
            </a:r>
            <a:fld id="{3F532254-1AA0-4941-A6E9-FBE256358A64}" type="slidenum">
              <a:rPr b="1" lang="en-GB" sz="1400" spc="-1" strike="noStrike">
                <a:solidFill>
                  <a:srgbClr val="6666ff"/>
                </a:solidFill>
                <a:latin typeface="Arial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7772400" cy="18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37720" y="1676520"/>
            <a:ext cx="784548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62120" y="6324480"/>
            <a:ext cx="4190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 u="sng">
                <a:solidFill>
                  <a:srgbClr val="6666ff"/>
                </a:solidFill>
                <a:uFillTx/>
                <a:latin typeface="Arial"/>
              </a:rPr>
              <a:t>TTÜ 1999 T.Tammet  IT sissejuh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838080" y="6248520"/>
            <a:ext cx="7772400" cy="1440"/>
          </a:xfrm>
          <a:prstGeom prst="line">
            <a:avLst/>
          </a:prstGeom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553080" y="62485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2B5983-43D8-40E9-9109-445AFF9838CA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-5580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495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grammeerimise põhikurs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914400" y="302760"/>
            <a:ext cx="7769160" cy="303840"/>
            <a:chOff x="914400" y="302760"/>
            <a:chExt cx="7769160" cy="303840"/>
          </a:xfrm>
        </p:grpSpPr>
        <p:sp>
          <p:nvSpPr>
            <p:cNvPr id="91" name=""/>
            <p:cNvSpPr/>
            <p:nvPr/>
          </p:nvSpPr>
          <p:spPr>
            <a:xfrm>
              <a:off x="914400" y="604800"/>
              <a:ext cx="776772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8682120" y="302760"/>
              <a:ext cx="1440" cy="303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-3607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Code example 2: convert list to array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t us write this n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69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-3607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List vs array: unlimited / limited size (1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29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is always possible to replace an array with a lis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ever, you cannot always replace a list by an array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y: arrays have a fixed length, while lists can have arbitrary, unbounded length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ample from homework 2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ing in a file, consisting of 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ce file length initially not known, cannot allocate a right size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ever, one could first build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 list of row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and only then convert to an arra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74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-3607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List vs array: access speed (2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rays have exactly one advantage, on the other hand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cessing N-th element is very fast, even in N is bi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 so for list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79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-3607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List vs array: adding/deleting an element (3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sts have yet another advantag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ding a new element is fa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leting an existing element is fa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 so for array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84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-3607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List vs array: a summary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vantages/disadvant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89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752480" y="2057400"/>
            <a:ext cx="6477120" cy="2589120"/>
            <a:chOff x="1752480" y="2057400"/>
            <a:chExt cx="6477120" cy="2589120"/>
          </a:xfrm>
        </p:grpSpPr>
        <p:sp>
          <p:nvSpPr>
            <p:cNvPr id="192" name=""/>
            <p:cNvSpPr/>
            <p:nvPr/>
          </p:nvSpPr>
          <p:spPr>
            <a:xfrm>
              <a:off x="1752480" y="2057400"/>
              <a:ext cx="6477120" cy="2589120"/>
            </a:xfrm>
            <a:prstGeom prst="roundRect">
              <a:avLst>
                <a:gd name="adj" fmla="val 60"/>
              </a:avLst>
            </a:prstGeom>
            <a:solidFill>
              <a:srgbClr val="ccffcc"/>
            </a:solidFill>
            <a:ln w="255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752480" y="2057400"/>
              <a:ext cx="647712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rray                                     Li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imited size         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                           Unlimited size         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ast access         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+ 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                        Slow access          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 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low add/delete   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- 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                         Fast acces/delete   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-3607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Linked lists: iterative find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boolean find(String searchItem, Node head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de runner;    // A pointer for traversing the lis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unner = head;  // Start by looking at the head of the lis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while ( runner != null 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 runner.item.equals(searchItem) )  return true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unner = runner.next;  // Move on to the next nod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// end find(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97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819520" y="4267080"/>
            <a:ext cx="5581440" cy="1632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-3607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Linked lists: insertio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insert a new item into the lis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ind the place in list, keep previous node in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struct a new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t the old previous node point to new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t new node point to next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203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3962520" y="2590920"/>
            <a:ext cx="4572000" cy="3652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-3607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Linked lists: insertion cod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28240" y="761760"/>
            <a:ext cx="8915400" cy="563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void insert(String insertItem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de newNode;          // A Node to contain the new item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ewNode = new Node(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ewNode.item = insertItem;  // (N.B.  newNode.next is null.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 head == null 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head = newNode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else if ( head.item.compareTo(insertItem) &gt;= 0 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ewNode.next = head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head = newNode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de runner;     // A node for traversing the lis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de previous;   // points to the node preceding runn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unner = head.next;   // look at the SECOND positio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evious = head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while (runner != null &amp;&amp; runner.item.compareTo(insertItem) &lt; 0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evious = runner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unner = runner.next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ewNode.next = runner;     // Insert newNode after previou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evious.next = newNode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 // end insert(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209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-3607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Abstract data types (ADT-s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58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ava and other programming languages give u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mitive data types like integers, floats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r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ructures or classes which can be used for lists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ut what about other possible data types: stacks, queues, etc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e can build them ourselv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 We need to giv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ass definitions for keeping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thods of a class for manipulating that data (example: add a new element, delete a new element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we define such a class, it is called an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bstract data typ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214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-3607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Stack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219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528920" y="685800"/>
            <a:ext cx="5418000" cy="5537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-3607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Overview of the lecture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ked list: a very common recursive data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st vs arr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cks and queu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bstract data typ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e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96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-3607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Stack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61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stack consists of a sequence of items, which should be thought of piled one on top of the other like a physical stack of boxes or cafeteria trays. Only the top item on the stack is accessible at any given time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ree operations necessary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p element can be removed from the stack with an operation called </a:t>
            </a:r>
            <a:r>
              <a:rPr b="1" lang="en-GB" sz="1800" spc="-1" strike="noStrike">
                <a:solidFill>
                  <a:srgbClr val="e70000"/>
                </a:solidFill>
                <a:latin typeface="Arial"/>
              </a:rPr>
              <a:t>pop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 An item lower down on the stack can only be removed after all the items on top of it have been popped off the sta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new item can be added to the top of the stack with an operation called </a:t>
            </a:r>
            <a:r>
              <a:rPr b="1" lang="en-GB" sz="1800" spc="-1" strike="noStrike">
                <a:solidFill>
                  <a:srgbClr val="e70000"/>
                </a:solidFill>
                <a:latin typeface="Arial"/>
              </a:rPr>
              <a:t>pus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 We can make a stack of any type of items. If, for example, the items are values of type int, then the push and pop operations can be implemented as instance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 can check if a stack is empty: implemented as a method  </a:t>
            </a:r>
            <a:r>
              <a:rPr b="1" lang="en-GB" sz="1800" spc="-1" strike="noStrike">
                <a:solidFill>
                  <a:srgbClr val="e70000"/>
                </a:solidFill>
                <a:latin typeface="Arial"/>
              </a:rPr>
              <a:t>isempt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225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-3607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Implementation 1: StackOfInts class for integer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52280" y="761760"/>
            <a:ext cx="8763120" cy="563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StackOfInts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vate static class Node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nt item;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de next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vate Node top; // global var holding a pointer to top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void push( int N ) {    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de newTop;         // A Node to hold the new item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ewTop = new Node(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ewTop.item = N;     // Store N in the new Nod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ewTop.next = top;   // The new Node points to the old to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op = newTop;        // The new item is now on to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int pop(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nt topItem = top.item;  // The item that is being poppe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op = top.next;  // The previous second item is now on to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turn topItem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boolean isEmpty() { // check if stack is emp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turn (top == null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// end class StackOfI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230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-3607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Another implementation: using arrays for stack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240" y="761760"/>
            <a:ext cx="8915400" cy="601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StackOfInts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vate int[] items = new int[10];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vate int top = 0;  // The number of items currently on the stack.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void push( int N 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top == items.length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nt[] newArray = new int[ 2*items.length ]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arraycopy(items, 0, newArray, 0, items.length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tems = newArray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tems[top] = N;  // Put N in next available spo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op++;           // Number of items goes up by on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int pop(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nt topItem = items[top - 1]  // Top item in the stack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op--;    // Number of items on the stack goes down by on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turn topItem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boolean isEmpty(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turn (top == 0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// end clas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235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-3607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Queu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240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571760" y="762120"/>
            <a:ext cx="5073480" cy="5510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-3607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Queue implementation using list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60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QueueOfInts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vate static class Node {    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nt item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de next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vate Node head = null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vate Node tail = null;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void enqueue( int N 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de newTail = new Node();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ewTail.item = N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head == null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head = newTail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ail = newTail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ail.next = newTail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ail = newTail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nt dequeue(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nt firstItem = head.item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head = head.next;  // The previous second item is now firs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head == null) tail = null; 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turn firstItem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boolean isEmpty(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turn (head == null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// end class QueueOfI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246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-3607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A few words about data types and generic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41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stack and queue examples were stacks and queues of integer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 could implement stack and queue also for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lo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r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rays of i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tc etc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all of these implementations would be very simila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ypically, a better idea is to implement one general stack (or queue) for all data typ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Java, every class has class Object as a top level par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t us make a stack and queue of elements of type Objec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ever, primitive data types (ints, floats, etc) are not o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, we have wrapper classes for that: Integer x = new Integer(1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ava 1.5 contains a special "generics" mechanism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914400" y="302760"/>
            <a:ext cx="7769160" cy="303840"/>
            <a:chOff x="914400" y="302760"/>
            <a:chExt cx="7769160" cy="303840"/>
          </a:xfrm>
        </p:grpSpPr>
        <p:sp>
          <p:nvSpPr>
            <p:cNvPr id="251" name=""/>
            <p:cNvSpPr/>
            <p:nvPr/>
          </p:nvSpPr>
          <p:spPr>
            <a:xfrm>
              <a:off x="914400" y="604800"/>
              <a:ext cx="776772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8682120" y="302760"/>
              <a:ext cx="1440" cy="303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Trees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 the blackboar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256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inary trees: recursive node counting exampl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51920" y="7621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lass TreeNode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nt item;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reeNode left;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reeNode right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tatic int countNodes( TreeNode root 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 root == null 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turn 0;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nt count = 1;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ount += countNodes(root.left);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ount += countNodes(root.right);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turn count;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// end countNo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261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5257800" y="914400"/>
            <a:ext cx="3357720" cy="4572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inary trees as a universal datatyp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inary trees can be used to construct any other datatype, including lists, arrays et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ever, often it is faster and more efficient to use other datatypes directly, not through simulating them via binary tre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sp and scheme: two datatypes used: binary trees (with list syntax) and array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 blackboard: construct the following list as a  binary tre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a    (1   2)    ()     ((e)  f) 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267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Efficiency of standard operations on data structur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38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nsorted array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arch is slow (every element is looked throug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ertion is slow (all elements to the right must be mov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orted array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arch i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as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use binary search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ertion is slow (all elements to the right must be mov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is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arch is slow (every element is looked throug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ertion i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ast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elements to the right are not mov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inary (balanced) sort tre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arch i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as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binary sear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ertion i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as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elemetns to the right are not mov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272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-3607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Linked data structur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reference to one object can be stored in an instance variable of another object. The objects are then said to be "linked.“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lex data structured can be built by linking objects together. An especially interesting case occurs  when an object contains a link to another object that belongs to the same class. In that case, the class is used in its own definition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veral important types of data structures are built using classes of this kin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01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-3607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Recursive data structur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35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cursive data structures (class declarations)  make it possible to create arbitrarily large data structur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// An object of type Employee holds data ab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//    one employe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tring name;          // Name of the employe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supervisor;  // The employee's superviso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.  // (Other instance variables and methods.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// end class Employe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mp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a variable of type Employee, then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mp.superviso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another variable of type Employee, as well a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mp.supervisor.supervis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emp refers  to the boss, then the value of emp.supervisor should be null to indicate the fact that the boss has no superviso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06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-3607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Exampl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64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mployee e1 = new Employee(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1.name = "John"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1.supervisor=null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mployee e2 = new Employee(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2.name = "Chris"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2.supervisor = e1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mployee e3 = new Employee(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3.name = "Pat"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3.supervisor = e2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mployee e4 = new Employee(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4.name = "Ann"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4.supervisor = e2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11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767640" y="1103400"/>
            <a:ext cx="928440" cy="642600"/>
            <a:chOff x="6767640" y="1103400"/>
            <a:chExt cx="928440" cy="642600"/>
          </a:xfrm>
        </p:grpSpPr>
        <p:sp>
          <p:nvSpPr>
            <p:cNvPr id="114" name=""/>
            <p:cNvSpPr/>
            <p:nvPr/>
          </p:nvSpPr>
          <p:spPr>
            <a:xfrm>
              <a:off x="6767640" y="1103400"/>
              <a:ext cx="928440" cy="641160"/>
            </a:xfrm>
            <a:prstGeom prst="roundRect">
              <a:avLst>
                <a:gd name="adj" fmla="val 245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767640" y="1103400"/>
              <a:ext cx="928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"John"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nu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715000" y="2514600"/>
            <a:ext cx="928800" cy="642600"/>
            <a:chOff x="5715000" y="2514600"/>
            <a:chExt cx="928800" cy="642600"/>
          </a:xfrm>
        </p:grpSpPr>
        <p:sp>
          <p:nvSpPr>
            <p:cNvPr id="117" name=""/>
            <p:cNvSpPr/>
            <p:nvPr/>
          </p:nvSpPr>
          <p:spPr>
            <a:xfrm>
              <a:off x="5715000" y="2514600"/>
              <a:ext cx="928800" cy="641520"/>
            </a:xfrm>
            <a:prstGeom prst="roundRect">
              <a:avLst>
                <a:gd name="adj" fmla="val 245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715000" y="2514600"/>
              <a:ext cx="92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"Chris"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7772400" y="4876920"/>
            <a:ext cx="928800" cy="642600"/>
            <a:chOff x="7772400" y="4876920"/>
            <a:chExt cx="928800" cy="642600"/>
          </a:xfrm>
        </p:grpSpPr>
        <p:sp>
          <p:nvSpPr>
            <p:cNvPr id="120" name=""/>
            <p:cNvSpPr/>
            <p:nvPr/>
          </p:nvSpPr>
          <p:spPr>
            <a:xfrm>
              <a:off x="7772400" y="4876920"/>
              <a:ext cx="928800" cy="641160"/>
            </a:xfrm>
            <a:prstGeom prst="roundRect">
              <a:avLst>
                <a:gd name="adj" fmla="val 245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72400" y="4876920"/>
              <a:ext cx="92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"Ann"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876920" y="3657600"/>
            <a:ext cx="928440" cy="642600"/>
            <a:chOff x="4876920" y="3657600"/>
            <a:chExt cx="928440" cy="642600"/>
          </a:xfrm>
        </p:grpSpPr>
        <p:sp>
          <p:nvSpPr>
            <p:cNvPr id="123" name=""/>
            <p:cNvSpPr/>
            <p:nvPr/>
          </p:nvSpPr>
          <p:spPr>
            <a:xfrm>
              <a:off x="4876920" y="3657600"/>
              <a:ext cx="928440" cy="641520"/>
            </a:xfrm>
            <a:prstGeom prst="roundRect">
              <a:avLst>
                <a:gd name="adj" fmla="val 245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76920" y="3657600"/>
              <a:ext cx="928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"Pat"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 flipV="1">
            <a:off x="5410080" y="3121200"/>
            <a:ext cx="533520" cy="1072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6400800" y="1749240"/>
            <a:ext cx="685800" cy="1301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7540560" y="1749240"/>
            <a:ext cx="311040" cy="3663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-3607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Count steps to the top-level boss: code exampl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2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 emp.supervisor == null 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 emp.name + " is the boss!" 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Employee runner;  // For "running" up the chain of comman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unner = emp.supervisor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 runner.supervisor == null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 emp.nam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+ " reports directly to the boss." 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while ( runner.supervisor != null 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ount++;  // Count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unner = runner.supervisor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 "There are " + cou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+ " supervisors between " + emp.name  + " and the boss." 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914400" y="302760"/>
            <a:ext cx="7769160" cy="303840"/>
            <a:chOff x="914400" y="302760"/>
            <a:chExt cx="7769160" cy="303840"/>
          </a:xfrm>
        </p:grpSpPr>
        <p:sp>
          <p:nvSpPr>
            <p:cNvPr id="131" name=""/>
            <p:cNvSpPr/>
            <p:nvPr/>
          </p:nvSpPr>
          <p:spPr>
            <a:xfrm>
              <a:off x="914400" y="604800"/>
              <a:ext cx="776772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8682120" y="302760"/>
              <a:ext cx="1440" cy="303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-3607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Linked list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lass Node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tring item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de next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lass Node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tring item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de previous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de next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36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276720" y="1219320"/>
            <a:ext cx="5641920" cy="4556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-3607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Why are linked lists so important? Arrays vs lists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ld we in principle always use nested arrays (one array inside another?) instead of linked list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[0]=13;  a[1]=7;    a[2]=2;   a[3]=19;   a[4]=44;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42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057400" y="2209680"/>
            <a:ext cx="5032440" cy="40640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 flipV="1">
            <a:off x="990720" y="2587320"/>
            <a:ext cx="914400" cy="1073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228600" y="3733920"/>
            <a:ext cx="1479600" cy="581400"/>
            <a:chOff x="228600" y="3733920"/>
            <a:chExt cx="1479600" cy="581400"/>
          </a:xfrm>
        </p:grpSpPr>
        <p:sp>
          <p:nvSpPr>
            <p:cNvPr id="147" name=""/>
            <p:cNvSpPr/>
            <p:nvPr/>
          </p:nvSpPr>
          <p:spPr>
            <a:xfrm>
              <a:off x="228600" y="3733920"/>
              <a:ext cx="1479600" cy="581040"/>
            </a:xfrm>
            <a:prstGeom prst="roundRect">
              <a:avLst>
                <a:gd name="adj" fmla="val 273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8960" y="3733920"/>
              <a:ext cx="1478520" cy="581400"/>
            </a:xfrm>
            <a:prstGeom prst="roundRect">
              <a:avLst>
                <a:gd name="adj" fmla="val 27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Linke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presen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133720" y="22096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22096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91120" y="22096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105520" y="22096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5880" y="22096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752480" y="3429000"/>
            <a:ext cx="6248520" cy="3011040"/>
            <a:chOff x="1752480" y="3429000"/>
            <a:chExt cx="6248520" cy="3011040"/>
          </a:xfrm>
        </p:grpSpPr>
        <p:sp>
          <p:nvSpPr>
            <p:cNvPr id="155" name=""/>
            <p:cNvSpPr/>
            <p:nvPr/>
          </p:nvSpPr>
          <p:spPr>
            <a:xfrm>
              <a:off x="1752480" y="3429000"/>
              <a:ext cx="6248520" cy="2932200"/>
            </a:xfrm>
            <a:prstGeom prst="roundRect">
              <a:avLst>
                <a:gd name="adj" fmla="val 5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52480" y="3429000"/>
              <a:ext cx="6248520" cy="30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bove: two different representations of a list of el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                            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(13,7,2,19,44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28600" y="1981080"/>
            <a:ext cx="1479600" cy="581400"/>
            <a:chOff x="228600" y="1981080"/>
            <a:chExt cx="1479600" cy="581400"/>
          </a:xfrm>
        </p:grpSpPr>
        <p:sp>
          <p:nvSpPr>
            <p:cNvPr id="158" name=""/>
            <p:cNvSpPr/>
            <p:nvPr/>
          </p:nvSpPr>
          <p:spPr>
            <a:xfrm>
              <a:off x="228600" y="1981080"/>
              <a:ext cx="1479600" cy="581040"/>
            </a:xfrm>
            <a:prstGeom prst="roundRect">
              <a:avLst>
                <a:gd name="adj" fmla="val 273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28960" y="1981080"/>
              <a:ext cx="1478520" cy="581400"/>
            </a:xfrm>
            <a:prstGeom prst="roundRect">
              <a:avLst>
                <a:gd name="adj" fmla="val 27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rr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presen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 flipV="1">
            <a:off x="1219320" y="1673280"/>
            <a:ext cx="533160" cy="311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-3607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Code example 1: convert array to lis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t us write this n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64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nel</cp:lastModifiedBy>
  <cp:revision>0</cp:revision>
  <dc:subject/>
  <dc:title> </dc:title>
</cp:coreProperties>
</file>